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E07-39B8-4BED-9C57-2977B4B1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F62-E22A-4B59-835A-30751804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F72-B621-40BC-8420-8F65D601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8ED-B4C1-4A85-B0E4-E5DEF804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CC74-F79D-4AB6-8FE0-EFF06F4A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85E-469E-42B8-A523-5F21CB9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EC6D-CB10-475A-A1B7-E66444B4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816-97CD-447B-A688-11DFF600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8E5-DA8D-4ADC-BB42-A40938B0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5457-42D5-43EE-BB06-0231484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767-3832-4896-894D-B48EB468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890-7D7C-4A5A-BC93-8A94774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50BF-3CC1-4EF6-8CD2-FDF7A95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B5E3-0EA3-4AF1-871F-FED1DF4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A7E3-A767-4052-A1CC-D65A2207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C1D0-E33E-4FDD-ABF4-CCA0D489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143B-997B-403E-969D-1F7E50D7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04D-CB6A-4DD2-9345-2CBC3B78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5E6-6F58-4663-9E97-C1D728C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0D7-919D-435F-8668-FD97614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600-FD2A-4CB9-A72D-8DC2900F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0EE-9021-4C59-B035-F427E1DD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87C-C111-4489-BFE7-9DFB0A6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8E8-FB2C-45C5-BA5D-3125369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CD1B-016E-4E1F-807A-EBFC82689D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62A8-9D66-415E-BC87-B93F5F476AC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5"/>
          <p:cNvSpPr txBox="1"/>
          <p:nvPr/>
        </p:nvSpPr>
        <p:spPr>
          <a:xfrm>
            <a:off x="714240" y="1341360"/>
            <a:ext cx="800100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ссия в революционно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хр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17 го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ольшевики берут вл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Picture 5" descr="250px-529-2"/>
          <p:cNvPicPr/>
          <p:nvPr/>
        </p:nvPicPr>
        <p:blipFill>
          <a:blip r:embed="rId1"/>
          <a:stretch/>
        </p:blipFill>
        <p:spPr>
          <a:xfrm>
            <a:off x="304920" y="1371600"/>
            <a:ext cx="3047760" cy="2097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90px-%D0%91%D1%80%D0%BE%D0%BD%D0%B5%D0%B2%D0%B8%D0%BA_%D1%83_%D0%A1%D0%BC%D0%BE%D0%BB%D1%8C%D0%BD%D0%BE%D0%B3%D0%BE_1917"/>
          <p:cNvPicPr/>
          <p:nvPr/>
        </p:nvPicPr>
        <p:blipFill>
          <a:blip r:embed="rId2"/>
          <a:stretch/>
        </p:blipFill>
        <p:spPr>
          <a:xfrm>
            <a:off x="228600" y="3505320"/>
            <a:ext cx="4191120" cy="3020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b_1225966025"/>
          <p:cNvPicPr/>
          <p:nvPr/>
        </p:nvPicPr>
        <p:blipFill>
          <a:blip r:embed="rId3"/>
          <a:stretch/>
        </p:blipFill>
        <p:spPr>
          <a:xfrm>
            <a:off x="4572000" y="3052800"/>
            <a:ext cx="426708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К гражданам России!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мольный институ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Штаб револю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2" name="Picture 5" descr="14"/>
          <p:cNvPicPr/>
          <p:nvPr/>
        </p:nvPicPr>
        <p:blipFill>
          <a:blip r:embed="rId1"/>
          <a:stretch/>
        </p:blipFill>
        <p:spPr>
          <a:xfrm>
            <a:off x="219240" y="1219320"/>
            <a:ext cx="4052880" cy="5486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Здание Ленинградского горкома и обкома КПСС (б. Смольный институт благородных девиц, 1806—08, арх. Дж. Кваренги)."/>
          <p:cNvPicPr/>
          <p:nvPr/>
        </p:nvPicPr>
        <p:blipFill>
          <a:blip r:embed="rId2"/>
          <a:stretch/>
        </p:blipFill>
        <p:spPr>
          <a:xfrm>
            <a:off x="4419720" y="1600200"/>
            <a:ext cx="457200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5-26 октября 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 съезд Сове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II</a:t>
            </a:r>
            <a:r>
              <a:rPr b="1" i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  съезд Сове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Принял декрет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О мир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Об отмене смертной ка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Об армейских революционных комитетах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О полноте власти Советов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О земл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6" name="Picture 4" descr="Serov sovvlast.jpg"/>
          <p:cNvPicPr/>
          <p:nvPr/>
        </p:nvPicPr>
        <p:blipFill>
          <a:blip r:embed="rId1"/>
          <a:stretch/>
        </p:blipFill>
        <p:spPr>
          <a:xfrm>
            <a:off x="4419720" y="1143000"/>
            <a:ext cx="39733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1381320" y="179280"/>
            <a:ext cx="619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Причины прихода большев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к власт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57000" y="1287360"/>
            <a:ext cx="8002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кономический, социальный и политический кризис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стране в 1917 год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шибки Временного правительств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нергичность действий членов партии большевик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литическая воля и организаторский талан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деров партии большевиков – Ленина и Троцког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вижение простых и понятных всем лозунг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еволюция не дала нашей стране скатиться на положение третьеразрядной держа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октябрь был неизбежен в силу глубокого кризиса в стра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революция во многом случайная, оказала позитивное воздействие на об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не будь таких катализаторов революции как война , голод, общее озлобление люди никогда бы не поднялись против существующего стро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1100880" y="326880"/>
            <a:ext cx="77976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вод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Увольнение с Путиловского завода Петербурга о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1000 рабочих (</a:t>
            </a: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18 феврал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Дальнейшие событ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23 феврал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– женская демонстрация («Хлеба!», «Дол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ойну!», «Долой самодержавие!»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26 феврал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– кровавые столкновения с полицие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27 феврал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– массовый переход военного гарнизо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столицы на сторону восставш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250920" y="620640"/>
            <a:ext cx="2181240" cy="1295640"/>
          </a:xfrm>
          <a:prstGeom prst="horizontalScrol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Неудачны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х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717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 мировой вой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3203640" y="620640"/>
            <a:ext cx="2158920" cy="1295640"/>
          </a:xfrm>
          <a:prstGeom prst="horizontalScrol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5940360" y="620640"/>
            <a:ext cx="2592360" cy="1143000"/>
          </a:xfrm>
          <a:prstGeom prst="horizontalScrol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Падение авторитет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Arial"/>
              </a:rPr>
              <a:t>самодержа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547640" y="1773360"/>
            <a:ext cx="720720" cy="79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140360" y="1773360"/>
            <a:ext cx="0" cy="79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H="1">
            <a:off x="6300360" y="1628640"/>
            <a:ext cx="792360" cy="936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914120" y="2627280"/>
            <a:ext cx="4891320" cy="581400"/>
          </a:xfrm>
          <a:prstGeom prst="rect">
            <a:avLst/>
          </a:prstGeom>
          <a:noFill/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Февральская револю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4211640" y="3284640"/>
            <a:ext cx="0" cy="288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85520" y="3573360"/>
            <a:ext cx="7175880" cy="1191240"/>
          </a:xfrm>
          <a:prstGeom prst="rect">
            <a:avLst/>
          </a:prstGeom>
          <a:noFill/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 марта1917 г.- отречение от престола Николая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 марта 1917 г. – отречение от престол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ликого князя Михаил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4140360" y="479736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2363760" y="5157720"/>
            <a:ext cx="3868920" cy="398880"/>
          </a:xfrm>
          <a:prstGeom prst="rect">
            <a:avLst/>
          </a:prstGeom>
          <a:noFill/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вержение монархии в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4140360" y="566100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569880" y="5950080"/>
            <a:ext cx="7613280" cy="642600"/>
          </a:xfrm>
          <a:prstGeom prst="rect">
            <a:avLst/>
          </a:prstGeom>
          <a:noFill/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стема двоевластия – ситуация, когда в государстве одновременн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уществуют два органа вла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235320" y="260280"/>
            <a:ext cx="2338560" cy="520560"/>
          </a:xfrm>
          <a:prstGeom prst="rect">
            <a:avLst/>
          </a:prstGeom>
          <a:noFill/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воевласт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1258560" y="907920"/>
            <a:ext cx="208908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5292720" y="907920"/>
            <a:ext cx="208764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19600" y="1557360"/>
            <a:ext cx="3589920" cy="91692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ременный исполнительны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митет Государственной Дум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(Родзянко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806000" y="1432080"/>
            <a:ext cx="3493800" cy="119124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етроградский совет рабочих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рестьянских и солдатски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епутат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(Чхеидз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1763640" y="263700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73600" y="3089160"/>
            <a:ext cx="3018240" cy="64260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ременное правитель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(князь Львов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763640" y="3933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08920" y="41688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адеты, октябрист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6443640" y="2781360"/>
            <a:ext cx="0" cy="1368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078160" y="41497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еньшевики, эсе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763640" y="458136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6443640" y="4508640"/>
            <a:ext cx="0" cy="43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35480" y="49608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власть без силы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435640" y="49417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сила без власти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1763640" y="5373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6443640" y="530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379440" y="582444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екларация Времен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авительст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5867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иказ №1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3727800" y="5753160"/>
            <a:ext cx="1335960" cy="64260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ервы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окумен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AutoShape 25"/>
          <p:cNvSpPr/>
          <p:nvPr/>
        </p:nvSpPr>
        <p:spPr>
          <a:xfrm>
            <a:off x="3059280" y="6021360"/>
            <a:ext cx="566640" cy="341280"/>
          </a:xfrm>
          <a:prstGeom prst="leftRightArrow">
            <a:avLst>
              <a:gd name="adj1" fmla="val 50000"/>
              <a:gd name="adj2" fmla="val 3305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>
            <a:off x="5148360" y="5950080"/>
            <a:ext cx="576000" cy="360360"/>
          </a:xfrm>
          <a:prstGeom prst="leftRightArrow">
            <a:avLst>
              <a:gd name="adj1" fmla="val 50000"/>
              <a:gd name="adj2" fmla="val 3182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2843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284120" y="351000"/>
            <a:ext cx="7326720" cy="45972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ременное правительство не популярно в народ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H="1">
            <a:off x="900000" y="907920"/>
            <a:ext cx="172728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4572000" y="907920"/>
            <a:ext cx="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7093080" y="907920"/>
            <a:ext cx="100800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32200" y="136044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емли не даёт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349800" y="1341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ир не подписывае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568920" y="12891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абочий вопро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е решае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468360" y="1700280"/>
            <a:ext cx="647640" cy="1584360"/>
          </a:xfrm>
          <a:custGeom>
            <a:avLst/>
            <a:gdLst>
              <a:gd name="textAreaLeft" fmla="*/ 86760 w 647640"/>
              <a:gd name="textAreaRight" fmla="*/ 560880 w 6476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7236000" y="1916280"/>
            <a:ext cx="865080" cy="1296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3780000" y="1916280"/>
            <a:ext cx="1152360" cy="10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453040" y="3141720"/>
            <a:ext cx="4047120" cy="52056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Вся власть Советам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522360" y="388152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4 апреля 1917г.- «Апрельские тезисы» Ленин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юль – конец двоевласт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3564000" y="436572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4195440" y="416880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ременное коалиционное правительств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596520" y="4456080"/>
            <a:ext cx="46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вгуст 1917г – мятеж генерала Корнил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5849280" y="445608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это была попыт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664200" y="4745160"/>
            <a:ext cx="46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еренского установить личную диктатур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971640" y="333360"/>
            <a:ext cx="7056360" cy="11509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Политические итоги феврал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9280" y="2276640"/>
            <a:ext cx="2557440" cy="23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Arial"/>
              </a:rPr>
              <a:t>Отречение цар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Arial"/>
              </a:rPr>
              <a:t>Ликвидац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Arial"/>
              </a:rPr>
              <a:t>монарх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059280" y="2708280"/>
            <a:ext cx="2663640" cy="22320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Завоева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политическо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свободы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Перспекти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демократическо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развития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12000" y="3429000"/>
            <a:ext cx="2808000" cy="208764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Специфическо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реш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вопроса о власти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возникнов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двоевласт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514880" y="189000"/>
            <a:ext cx="6406200" cy="825480"/>
          </a:xfrm>
          <a:prstGeom prst="rect">
            <a:avLst/>
          </a:prstGeom>
          <a:noFill/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можные альтернативы развития Росс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917 год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 rot="8011200">
            <a:off x="971280" y="1413000"/>
            <a:ext cx="1296720" cy="57600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 rot="5400000">
            <a:off x="4066920" y="1414440"/>
            <a:ext cx="1081440" cy="50328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 rot="3787800">
            <a:off x="7009560" y="1372320"/>
            <a:ext cx="1224000" cy="612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25440" y="227664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бераль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мокра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образова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611280" y="2276640"/>
            <a:ext cx="1008000" cy="1296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755280" y="2205000"/>
            <a:ext cx="1079640" cy="15112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618360" y="2079720"/>
            <a:ext cx="225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становл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енн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иктатуры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льнейши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рождени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нарх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3708360" y="1916280"/>
            <a:ext cx="1079640" cy="25923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H="1">
            <a:off x="3780000" y="1916280"/>
            <a:ext cx="1512720" cy="26650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6341400" y="2205000"/>
            <a:ext cx="2478960" cy="1922760"/>
          </a:xfrm>
          <a:prstGeom prst="rect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становл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иктат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райн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волюционны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арт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74040" y="481644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– 26 октября – большевики приходят к вла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готовка револю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12 октябр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создание Военно-революционного комитета (ВР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.Д. Троц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16 октябр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принятие резолюции 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«о всесторонней  подготовке вооруженного восстания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явление Каменева и Зиновье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.Е. Зиновьев 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Л.Б. Камене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8 октября 1917г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газете «Новая жизнь» опубликовано заявление о несогласии с решением ЦК о подготовке и проведении революции 25 октябр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1" name="Picture 5" descr="ANd9GcR_8G4iWy8KHu-Qp89Tr2nxx6gFD8Y_GiKg8HS9aPFCA7_BILIjByKp7aQ"/>
          <p:cNvPicPr/>
          <p:nvPr/>
        </p:nvPicPr>
        <p:blipFill>
          <a:blip r:embed="rId1"/>
          <a:stretch/>
        </p:blipFill>
        <p:spPr>
          <a:xfrm>
            <a:off x="2514600" y="1828800"/>
            <a:ext cx="2208240" cy="297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ANd9GcRLXce1FoVmQn_4XGk86IK5LtrcmVDWgDo9P56wrWNs9f8yMA-oHHad-Q"/>
          <p:cNvPicPr/>
          <p:nvPr/>
        </p:nvPicPr>
        <p:blipFill>
          <a:blip r:embed="rId2"/>
          <a:stretch/>
        </p:blipFill>
        <p:spPr>
          <a:xfrm>
            <a:off x="152280" y="1752480"/>
            <a:ext cx="21542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09-29T15:57:25Z</dcterms:modified>
  <cp:revision>9</cp:revision>
  <dc:subject/>
  <dc:title>PowerPoint Presentation</dc:title>
</cp:coreProperties>
</file>