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B1E-1F9D-41AE-BDAB-0DDBD5F1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62A-5259-4931-81CD-BA72B072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6D3-B8C6-498B-9446-B3E3BD9D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08E-F6CA-40CB-8E39-1C55F68E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FE8-C87F-4565-BD9D-5AFAB978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375-E3B0-45AC-9E1B-311E768E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256-926B-43B1-B000-F3335ED9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DB9-D458-40FD-99EB-9B1EFB7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0D7-B68F-4E84-A59F-47A38FFB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AB7-1E33-463D-A7F4-143C5569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F37-C34F-48B3-A3CA-FE67D397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1B6-427B-4631-8032-C0C6603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9008-7D93-49CD-864B-EF6CD9B2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Культура  Киевской Рус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567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880" y="5943600"/>
            <a:ext cx="83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 Святой Софии в Константинополе (реконструк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229600" cy="5388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5400" y="5627520"/>
            <a:ext cx="67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ременный вид. Мечеть в Стамбу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96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соб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Большое влияние оказывали сосед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народы: угро-финны, балты, хазары, печенеги,половцы, западные славя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Большое влияние Византии после при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христ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Главный мотив- патриот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343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4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Сохранение элементов языческ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3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92160"/>
            <a:ext cx="75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УСТНОЕ НАРОДНОЕ ТВОР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609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6280" y="114300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бы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5560" y="1628640"/>
            <a:ext cx="759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(поэтические сказания о прош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в которых прославлялись подви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геро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2 пол.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X-X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в.в.-проникновение пись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на Р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56120" y="92160"/>
            <a:ext cx="53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ЛИТЕРАТУРНЫЕ  ЖАН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838080" y="685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609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609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54000" y="204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0" y="1055520"/>
            <a:ext cx="278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Лето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(пове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о событиях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год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760" y="3494160"/>
            <a:ext cx="346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«Пов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в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л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Автор-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Киево-Печер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Монастыря- Не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1113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0800" y="1131840"/>
            <a:ext cx="265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Ж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(би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челове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причисл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церковью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лику свят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97280" y="4332240"/>
            <a:ext cx="276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«Житие Бор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и Глеб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Автор-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Не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32680" y="1179360"/>
            <a:ext cx="54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7720" y="914400"/>
            <a:ext cx="281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(торже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и обуча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обращ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724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5280" y="3505320"/>
            <a:ext cx="2369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«Слово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Зако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Благода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Автор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- Ил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р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0"/>
            <a:ext cx="42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9760" y="826920"/>
            <a:ext cx="731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менное строительство началось в ко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ека, после принятия христи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720" y="2122560"/>
            <a:ext cx="391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Десят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церк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(Успения Богороди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в Кие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98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Заложил 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Влади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191120" y="2100240"/>
            <a:ext cx="4647960" cy="3440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4629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760" y="5322960"/>
            <a:ext cx="708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СОФИЙСКИЙ СОБОР В КИЕВЕ- 1037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Заложил Ярослав Мудр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36360"/>
            <a:ext cx="5943600" cy="5585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80840" y="579132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СОФИЙСКИЙ  СОБОР  В  КИЕ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6172200" cy="463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99760" y="5094360"/>
            <a:ext cx="67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СОФИЙСКИЙ  СОБОР  В  НОВГО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050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Заложил Ярослав Мудр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69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СОФИЙСКИЙ  СОБОР  В  НОВГО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019920"/>
            <a:ext cx="6988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тейников</cp:lastModifiedBy>
  <dcterms:modified xsi:type="dcterms:W3CDTF">2013-12-02T08:03:4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