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610-9248-461C-9DD4-5DA3585A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C37-332D-4547-BDBA-0DDD4D39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7B99-506C-467C-927A-6D0ACAA7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BEA4-D40C-479B-8A98-89AA207A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18C8-F280-46C7-A5A7-F7FB8B95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679F-EF71-4E25-865E-39782E35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7AF0-5753-42C5-88E6-6139A328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C5F5-A351-4528-BC46-8988CB1A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3597-E18E-42F0-BA83-91879B45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8ED1-8367-4CCB-A912-216AFEE5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CE31-1675-463B-A131-C29CEFE3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ABF-EE6F-4E1B-AE7E-33847947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32C5-F360-464A-A92A-1EE676A6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0381-7D2F-4FB0-B373-6B2B2494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E9BB-7EC7-4E2D-ACFD-7BA80526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89D8-AE4A-494B-89E2-734FA5F7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1240-CBC2-4CAE-9DFA-98823B6F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DDFA-3126-4E01-A568-8ED051AD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7340-9CAB-4C03-A6BA-41FF519E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1D3E-63E3-469B-8FBE-50EEF664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C82-CD4B-460B-A560-E36FBEDD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E28-72F6-477A-A4DC-950F5703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C21-C229-4FD6-BF80-E9F0BAD5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0D0-5CCF-4B51-BF2E-C4304C7D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2988-30AF-47EA-8397-9182162BA2A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F7EB-0046-4809-A4B5-A7656824E4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Семья народов, проживающих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на территории Нижегородской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област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5280" y="136440"/>
            <a:ext cx="820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рд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обозначение объединяет два этноса с разными языками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рзю и мокшу, которые были единым целым, н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торическая судьба развела и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19280" y="2205000"/>
            <a:ext cx="5924520" cy="4257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857320" cy="3810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3619800" y="425520"/>
            <a:ext cx="5334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еста проживания в Нижегородск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бласт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Эрз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льнинский рай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ргачский рай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ченовский рай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аснооктябрьский рай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агинский рай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атковский рай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укояновский рай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вомайский рай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486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0360" y="4529160"/>
            <a:ext cx="303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окш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укояновский рай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вомайский рай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27040" y="425520"/>
            <a:ext cx="783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 многих названиях населённых пунктов юга обла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вучат личные имена основателей – эрзян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рда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рзама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ровати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сто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олдин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ивее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Н.Новгороде: Канавино, Бурнаковка, Копосо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сновные исторические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анят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146320" y="2624040"/>
            <a:ext cx="4778280" cy="2049480"/>
            <a:chOff x="2146320" y="2624040"/>
            <a:chExt cx="4778280" cy="2049480"/>
          </a:xfrm>
        </p:grpSpPr>
        <p:cxnSp>
          <p:nvCxnSpPr>
            <p:cNvPr id="124" name="_s18452"/>
            <p:cNvCxnSpPr>
              <a:stCxn id="125" idx="0"/>
              <a:endCxn id="126" idx="2"/>
            </p:cNvCxnSpPr>
            <p:nvPr/>
          </p:nvCxnSpPr>
          <p:spPr>
            <a:xfrm flipV="1" rot="16200000">
              <a:off x="5672160" y="3981240"/>
              <a:ext cx="22932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18448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3168720" y="3981240"/>
              <a:ext cx="22932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8445"/>
            <p:cNvCxnSpPr>
              <a:stCxn id="126" idx="0"/>
              <a:endCxn id="131" idx="2"/>
            </p:cNvCxnSpPr>
            <p:nvPr/>
          </p:nvCxnSpPr>
          <p:spPr>
            <a:xfrm flipV="1" rot="16200000">
              <a:off x="5046120" y="2620080"/>
              <a:ext cx="229320" cy="1251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18444"/>
            <p:cNvCxnSpPr>
              <a:stCxn id="129" idx="0"/>
              <a:endCxn id="131" idx="2"/>
            </p:cNvCxnSpPr>
            <p:nvPr/>
          </p:nvCxnSpPr>
          <p:spPr>
            <a:xfrm flipH="1" flipV="1" rot="5400000">
              <a:off x="3794760" y="2619360"/>
              <a:ext cx="229320" cy="1253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1" name="_s18440"/>
            <p:cNvSpPr/>
            <p:nvPr/>
          </p:nvSpPr>
          <p:spPr>
            <a:xfrm>
              <a:off x="3849840" y="2624040"/>
              <a:ext cx="1371600" cy="50796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занятия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_s18441"/>
            <p:cNvSpPr/>
            <p:nvPr/>
          </p:nvSpPr>
          <p:spPr>
            <a:xfrm>
              <a:off x="2597040" y="3360600"/>
              <a:ext cx="1371600" cy="507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эрзя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_s18442"/>
            <p:cNvSpPr/>
            <p:nvPr/>
          </p:nvSpPr>
          <p:spPr>
            <a:xfrm>
              <a:off x="5100480" y="3360600"/>
              <a:ext cx="1371600" cy="507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мокш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_s18447"/>
            <p:cNvSpPr/>
            <p:nvPr/>
          </p:nvSpPr>
          <p:spPr>
            <a:xfrm>
              <a:off x="2146320" y="4097160"/>
              <a:ext cx="2274840" cy="5763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земледелие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_s18451"/>
            <p:cNvSpPr/>
            <p:nvPr/>
          </p:nvSpPr>
          <p:spPr>
            <a:xfrm>
              <a:off x="4649760" y="4097160"/>
              <a:ext cx="2274840" cy="5763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скотоводств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16280" y="542880"/>
            <a:ext cx="7887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кончательно в состав Российског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сударства мордовские народы вош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новременно с марийцами, но и до это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и часто оказывались союзниками русски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борьбе против захватчи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ционально-культурным центром эрзи 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кши в области является г.Лукоянов, гд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1922 году открылся музей эрзянской 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кшанской культуры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5400720" cy="4221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5775840" y="136440"/>
            <a:ext cx="3329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Татар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XV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еке московск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нязья приняли п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оё поддан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тарского хана Касы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его потом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 давали земли 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язанской Мещере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од Городе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щерский, котор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тех пор получи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звание Касим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6920" y="4602240"/>
            <a:ext cx="84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нашей области проживает примерно 75 тыс. татар. Райо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х наибольшего сосредоточения: Сергачский, Краснооктябрьс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ий, Спасский, Княгининский, Пильнинский, Сеченовски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вомайск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97600" y="352440"/>
            <a:ext cx="847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ой из главных святынь татар в нашей области явля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мень Тараташ возле Уразовки. К нему совершаютс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ломнич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жнейшие центры татарской национальной культуры в наш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ласти – Сергач и Уразов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26920" y="2292480"/>
            <a:ext cx="7777440" cy="4449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763640" y="404640"/>
            <a:ext cx="5653080" cy="4391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399240" y="5084640"/>
            <a:ext cx="844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дственные татарам чуваши живут в четырёх деревн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ротынского района. Однако переехали они сюда лишь 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ке с территории современной Чуваш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63880" y="542880"/>
            <a:ext cx="7887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усские составляют 94 процента жител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ижегородской области. Но есть в не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ста, где они не в большинств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Краснооктябрьском районе, например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х по численности превосходят татары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живущие там около четырёхсот лет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36560" y="32688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торические этносы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ижегородского Поволжь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4360" y="2629080"/>
            <a:ext cx="7703280" cy="3395160"/>
            <a:chOff x="684360" y="2629080"/>
            <a:chExt cx="7703280" cy="3395160"/>
          </a:xfrm>
        </p:grpSpPr>
        <p:cxnSp>
          <p:nvCxnSpPr>
            <p:cNvPr id="88" name="_s6179"/>
            <p:cNvCxnSpPr>
              <a:stCxn id="89" idx="1"/>
              <a:endCxn id="90" idx="2"/>
            </p:cNvCxnSpPr>
            <p:nvPr/>
          </p:nvCxnSpPr>
          <p:spPr>
            <a:xfrm rot="10800000">
              <a:off x="1647720" y="4684320"/>
              <a:ext cx="319320" cy="1095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6177"/>
            <p:cNvCxnSpPr>
              <a:stCxn id="92" idx="1"/>
              <a:endCxn id="90" idx="2"/>
            </p:cNvCxnSpPr>
            <p:nvPr/>
          </p:nvCxnSpPr>
          <p:spPr>
            <a:xfrm rot="10800000">
              <a:off x="1647720" y="4684320"/>
              <a:ext cx="319320" cy="425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6175"/>
            <p:cNvCxnSpPr>
              <a:stCxn id="94" idx="0"/>
              <a:endCxn id="95" idx="2"/>
            </p:cNvCxnSpPr>
            <p:nvPr/>
          </p:nvCxnSpPr>
          <p:spPr>
            <a:xfrm flipV="1" rot="16200000">
              <a:off x="3322080" y="3663000"/>
              <a:ext cx="182160" cy="964800"/>
            </a:xfrm>
            <a:prstGeom prst="bentConnector3">
              <a:avLst>
                <a:gd name="adj1" fmla="val 499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6" name="_s6173"/>
            <p:cNvCxnSpPr>
              <a:stCxn id="90" idx="0"/>
              <a:endCxn id="95" idx="2"/>
            </p:cNvCxnSpPr>
            <p:nvPr/>
          </p:nvCxnSpPr>
          <p:spPr>
            <a:xfrm flipH="1" flipV="1" rot="5400000">
              <a:off x="2198520" y="3503880"/>
              <a:ext cx="182160" cy="1283400"/>
            </a:xfrm>
            <a:prstGeom prst="bentConnector3">
              <a:avLst>
                <a:gd name="adj1" fmla="val 499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6171"/>
            <p:cNvCxnSpPr>
              <a:stCxn id="98" idx="0"/>
              <a:endCxn id="99" idx="2"/>
            </p:cNvCxnSpPr>
            <p:nvPr/>
          </p:nvCxnSpPr>
          <p:spPr>
            <a:xfrm flipV="1" rot="16200000">
              <a:off x="5890680" y="1684440"/>
              <a:ext cx="182160" cy="2888280"/>
            </a:xfrm>
            <a:prstGeom prst="bentConnector3">
              <a:avLst>
                <a:gd name="adj1" fmla="val 499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6158"/>
            <p:cNvCxnSpPr>
              <a:stCxn id="101" idx="0"/>
              <a:endCxn id="99" idx="2"/>
            </p:cNvCxnSpPr>
            <p:nvPr/>
          </p:nvCxnSpPr>
          <p:spPr>
            <a:xfrm flipV="1" rot="16200000">
              <a:off x="4767120" y="2808000"/>
              <a:ext cx="182160" cy="640800"/>
            </a:xfrm>
            <a:prstGeom prst="bentConnector3">
              <a:avLst>
                <a:gd name="adj1" fmla="val 499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6157"/>
            <p:cNvCxnSpPr>
              <a:stCxn id="95" idx="0"/>
              <a:endCxn id="99" idx="2"/>
            </p:cNvCxnSpPr>
            <p:nvPr/>
          </p:nvCxnSpPr>
          <p:spPr>
            <a:xfrm flipH="1" flipV="1" rot="5400000">
              <a:off x="3643200" y="2324880"/>
              <a:ext cx="182160" cy="1607400"/>
            </a:xfrm>
            <a:prstGeom prst="bentConnector3">
              <a:avLst>
                <a:gd name="adj1" fmla="val 499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9" name="_s6153"/>
            <p:cNvSpPr/>
            <p:nvPr/>
          </p:nvSpPr>
          <p:spPr>
            <a:xfrm>
              <a:off x="3574080" y="2629080"/>
              <a:ext cx="1926000" cy="408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Этнос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_s6154"/>
            <p:cNvSpPr/>
            <p:nvPr/>
          </p:nvSpPr>
          <p:spPr>
            <a:xfrm>
              <a:off x="1967040" y="3219840"/>
              <a:ext cx="1926000" cy="8352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Финно-угр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_s6155"/>
            <p:cNvSpPr/>
            <p:nvPr/>
          </p:nvSpPr>
          <p:spPr>
            <a:xfrm>
              <a:off x="4214880" y="3219840"/>
              <a:ext cx="1925640" cy="8352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Татар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чуваш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_s6170"/>
            <p:cNvSpPr/>
            <p:nvPr/>
          </p:nvSpPr>
          <p:spPr>
            <a:xfrm>
              <a:off x="6461640" y="3219840"/>
              <a:ext cx="1926000" cy="8352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славян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_s6172"/>
            <p:cNvSpPr/>
            <p:nvPr/>
          </p:nvSpPr>
          <p:spPr>
            <a:xfrm>
              <a:off x="684360" y="4236840"/>
              <a:ext cx="1925640" cy="4464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Times New Roman"/>
                </a:rPr>
                <a:t>мордва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_s6174"/>
            <p:cNvSpPr/>
            <p:nvPr/>
          </p:nvSpPr>
          <p:spPr>
            <a:xfrm>
              <a:off x="2931120" y="4236840"/>
              <a:ext cx="1926000" cy="4464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Times New Roman"/>
                </a:rPr>
                <a:t>мари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_s6176"/>
            <p:cNvSpPr/>
            <p:nvPr/>
          </p:nvSpPr>
          <p:spPr>
            <a:xfrm>
              <a:off x="1967040" y="4865400"/>
              <a:ext cx="1926000" cy="488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Times New Roman"/>
                </a:rPr>
                <a:t>эрзя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_s6178"/>
            <p:cNvSpPr/>
            <p:nvPr/>
          </p:nvSpPr>
          <p:spPr>
            <a:xfrm>
              <a:off x="1967040" y="5535720"/>
              <a:ext cx="1926000" cy="488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мокш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64560" y="469800"/>
            <a:ext cx="133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ар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458040" y="189000"/>
            <a:ext cx="2685960" cy="3809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58480" y="1125360"/>
            <a:ext cx="606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х численность в стране – 671 тыс.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 которых 8 тыс. живут в нашем кра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арийцы делятся на 4 групп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уговые (Йошкар-Ол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орные (Козьмодемьянск, Васильсурск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сточные (Урал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веро-западные (Кировская обл.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ижегородская обл.: Тоншаевски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нкинский, Шарангский, Воскресен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йоны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889440" cy="2497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4356000" y="189000"/>
            <a:ext cx="459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мли марийцев начинались п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лге сразу за Н.Новгородо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ли марийцы по обоим берег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упный город Цепель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читавшийся столицей древни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ри, стоял возле современн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сильсурс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6200" y="359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71640" y="2852640"/>
            <a:ext cx="2857320" cy="3810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26920" y="20520"/>
            <a:ext cx="7201080" cy="6577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59040" y="662040"/>
            <a:ext cx="738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мять о былом расселении марийцев осталас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названиях сёл и рек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н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ен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ншае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тлуг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аранг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сские называли своих марийских соседе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ремис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8137800" cy="6219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3506760" cy="4392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484880" y="281160"/>
            <a:ext cx="4502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хождение мари в Российско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осударство произошло пр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ване Грозном – большин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 них стали союзник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сковского государ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тив Казани, жестоко и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теснявш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ционально – культурны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ентром мари в нашей обла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ала деревня Черномуж возл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ранг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тейников</cp:lastModifiedBy>
  <dcterms:modified xsi:type="dcterms:W3CDTF">2013-12-06T08:38:56Z</dcterms:modified>
  <cp:revision>6</cp:revision>
  <dc:subject/>
  <dc:title>PowerPoint Presentation</dc:title>
</cp:coreProperties>
</file>