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FCE-00F5-432A-A21F-A0E3DDD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DFC-88D6-4DB7-B4CC-3365FF7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9CE-A4E5-41BC-A6B3-E201CE33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CF4-6691-4AE8-921C-82ED3B47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7376-D935-447A-B7EA-B67EA96D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C3F-4A56-4A1C-A4BE-C822901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EC8E-0851-42F0-B97A-60D1FF6C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60FE-BE24-48D5-B796-7D756C9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F49E-2BD1-46F1-A9BF-FE2956D6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A83C-676E-4578-BC6A-79990F12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84C4-05CF-4909-BFBE-32289FA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01E-80D3-4DC4-A8E3-404E6AB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1510-37E6-4100-A9B7-4959A7B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38B3-630E-4350-ABEA-32DFC27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255-B4EB-4804-B7E9-E87430D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3E5-9CE8-4A2E-B057-B373C54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FCD4-83C2-49AB-8450-548B31DC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359-21C8-4BB4-BD5B-4456BAC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61F-F5EB-4E1F-ABD4-08D1CBA9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015-17E0-45A9-B2D9-24A7E6C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094-FB6B-421B-8EB6-8356CD9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EC6-8CFC-4B6E-9FF0-A2F1923A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A3F-4A5E-4B0A-B123-5980D73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BA3-0B3F-44DF-8976-F5ECE98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54E-DEBE-44D7-AECF-BB76EE58EC2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AAF9-4FE2-4E45-8A6D-AEC6ADC4CC5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0920" y="189000"/>
            <a:ext cx="8424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Городец на Волге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древнейший 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Нижегородского кр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5977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553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684360" y="1125360"/>
            <a:ext cx="849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ецки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с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697800" cy="51847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250000" y="570240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ородецкие игрушки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681640" y="23004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зьба по дереву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28000" cy="60217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78680" cy="58327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832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2384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7760" y="5057640"/>
            <a:ext cx="86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Впервые в летописях Городец упоминается в 1172 г.,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но уже как существующий город. Древнее названи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Городца – Городец Радилов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480360" cy="48592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60920" y="23004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ородецкая роспис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696000" cy="5545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256000" cy="6610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6840720" cy="6553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466360" y="8568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ородецкие пряники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3971880" cy="3592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095640" cy="23767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4390920" cy="329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6360" y="2106720"/>
            <a:ext cx="6335640" cy="4562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2320" y="14400"/>
            <a:ext cx="766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езчики по дереву вырезали специальные формы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ля пряников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327640" cy="51832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1987200" y="5805360"/>
            <a:ext cx="44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яничная форма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6096240" cy="48290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322000" y="527040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узей пряника в Городце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777440" cy="58370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915920" y="60930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 музее пряника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15000" cy="39718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599400" y="4551480"/>
            <a:ext cx="848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Из небольшой военной крепости, призванной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охранять русские границы, он быстро превратился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</a:rPr>
              <a:t>в город с мощными укреплениями.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46040" y="39852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Древний Городец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24000" y="981000"/>
            <a:ext cx="432000" cy="647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981000"/>
            <a:ext cx="574920" cy="576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1628640"/>
            <a:ext cx="102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8840" y="1525680"/>
            <a:ext cx="45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осад                        Детинец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6200" y="1886040"/>
            <a:ext cx="32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место, где жил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месленники,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орговцы и простой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юд)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1800" y="2030400"/>
            <a:ext cx="353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деревянная крепость,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де располагался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няжеский дом)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762800" cy="36957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559240" y="378936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овременный вид Городца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160" y="4191120"/>
            <a:ext cx="823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Городец играл заметную роль в политической жизн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уси. До основания Нижнего Новгорода он был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основным форпосто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пограничная крепость)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Руси на Волге, одним из центров русской культуры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9600" y="-33480"/>
            <a:ext cx="77886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Основные события из истории древнего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Городца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238 г.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 Городец был дотла сожжён монголо-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татарами, но вновь отстроился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263 г.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, возвращаясь из Золотой Орды, здес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скончался великий русский патриот и полководец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Александр Ярославович Невский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5113440" cy="35272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55800" y="158760"/>
            <a:ext cx="773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IV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.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князья, правившие в Городце, положили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много сил и средств, чтобы сделать город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богатым и красивым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о 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403 г.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 Городец подвергся разгрому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полчищами темника Едыгея. Этот удар оказался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для города смертельным. Разрушенный Городец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запустел. Только несколько веков спустя на его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месте появилось село Городец, положивше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ачало современному городу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О тех далёких временах, о бурных событиях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напоминает сохранившийся с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XII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 века городской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ал (высота от 5 до 7,5 м; ширина от 25 до 33 м)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53640" y="44604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Вся история Городца собрана в Городецко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imes New Roman"/>
              </a:rPr>
              <a:t>краеведческом музее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5640" cy="4753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208720" cy="6048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ейников</cp:lastModifiedBy>
  <dcterms:modified xsi:type="dcterms:W3CDTF">2002-05-09T23:32:25Z</dcterms:modified>
  <cp:revision>6</cp:revision>
  <dc:subject/>
  <dc:title>PowerPoint Presentation</dc:title>
</cp:coreProperties>
</file>