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97C-4BA1-4E62-BC0A-42B74AF9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25C1-C887-4831-98F7-77F1BBDB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83F-40FE-4D12-B623-185B3CB6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090-035E-4473-82B2-51052EBB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4409-52BA-4D85-A0FA-4E420F0F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8015-FEED-49A8-B06E-CAD74AE4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E61B-007E-4A5B-9003-AF69EB73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1218-047F-4F25-A074-4752FE58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9185-6EA9-4E9C-883A-399C0367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687F-BD23-43C0-8937-3A0F04F7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8395-CC9C-4205-A0E6-C6F52C15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7D9-6DFE-44B8-8FF5-975FE7B5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28DF-2AB5-443B-B7A5-876A1C9D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F61E-4D32-421C-AF08-23DFB686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C4FB-B1DD-4AF9-9D2B-CD3C918C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DFC3-DC20-4935-8871-AF0CF7B6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4A5A-80E2-469C-8424-8FD9DD40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98C4-98FE-4ABB-BC91-EDAC74BE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BF9-CE0C-4FF6-A87D-31ED2FD0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C07E-8B37-4FCF-9975-B8941F7E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79D7-A08B-4BBD-B746-235BF2C8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6E6-D3F8-4169-8EBD-8676FE1B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74E-42B7-4E4C-9547-97347608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7759-970F-4160-818A-7B57D467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F6C7-D30C-49A8-A740-2915FBCF84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A741-EBD6-43B4-AE0F-CB0F930A78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403280" y="836640"/>
            <a:ext cx="684072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форм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.А.Столыпин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/>
          <p:nvPr/>
        </p:nvSpPr>
        <p:spPr>
          <a:xfrm>
            <a:off x="181800" y="0"/>
            <a:ext cx="34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Дайте мне 20 л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ы не узнаете Россию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.А.Столып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79280" y="549360"/>
            <a:ext cx="3529080" cy="43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+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Увеличение насе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бири.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Освоение более 30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лн га пустующей земли.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Строительство тысяч сё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Создание крепких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диноличных хозяйст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88000" y="549360"/>
            <a:ext cx="4105080" cy="575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8ae"/>
                </a:solidFill>
                <a:latin typeface="Times New Roman"/>
              </a:rPr>
              <a:t>«-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8ae"/>
                </a:solidFill>
                <a:latin typeface="Times New Roman"/>
              </a:rPr>
              <a:t>1.Плохая подготов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8ae"/>
                </a:solidFill>
                <a:latin typeface="Times New Roman"/>
              </a:rPr>
              <a:t>переселенческ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8ae"/>
                </a:solidFill>
                <a:latin typeface="Times New Roman"/>
              </a:rPr>
              <a:t>ведомств к перевоз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8ae"/>
                </a:solidFill>
                <a:latin typeface="Times New Roman"/>
              </a:rPr>
              <a:t>и устройству люд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8ae"/>
                </a:solidFill>
                <a:latin typeface="Times New Roman"/>
              </a:rPr>
              <a:t>на мест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8ae"/>
                </a:solidFill>
                <a:latin typeface="Times New Roman"/>
              </a:rPr>
              <a:t>2.Возвращение ча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8ae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68ae"/>
                </a:solidFill>
                <a:latin typeface="Times New Roman"/>
              </a:rPr>
              <a:t>переселенцев (524 т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8ae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8ae"/>
                </a:solidFill>
                <a:latin typeface="Times New Roman"/>
              </a:rPr>
              <a:t>из 3 млн. 40 тыс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8ae"/>
                </a:solidFill>
                <a:latin typeface="Times New Roman"/>
              </a:rPr>
              <a:t>3.Крестьяне с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8ae"/>
                </a:solidFill>
                <a:latin typeface="Times New Roman"/>
              </a:rPr>
              <a:t>неохотой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8ae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0068ae"/>
                </a:solidFill>
                <a:latin typeface="Times New Roman"/>
              </a:rPr>
              <a:t>выходили из общины.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18000" y="-7920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зультаты реформ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686480" cy="6858000"/>
          </a:xfrm>
          <a:prstGeom prst="rect">
            <a:avLst/>
          </a:prstGeom>
          <a:ln w="76320">
            <a:solidFill>
              <a:srgbClr val="ccec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43520" y="182520"/>
            <a:ext cx="544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ьтернативы общественно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тия России в 1906 год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692000" y="1268280"/>
            <a:ext cx="647640" cy="505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27640" y="1268280"/>
            <a:ext cx="0" cy="505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64360" y="1268280"/>
            <a:ext cx="360360" cy="505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1743120"/>
            <a:ext cx="220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альнейше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долж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волю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58000" y="1598760"/>
            <a:ext cx="283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ступл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трреволю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26360" y="1670040"/>
            <a:ext cx="2742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ансформ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волю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снизу» 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волюци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сверху», т.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авле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волюци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тё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формир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82360" y="568440"/>
            <a:ext cx="663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 июля 1906 г. Председателем Совета Минист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л назначен П.А.Столып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002120" cy="5184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384720" cy="4552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1530720" y="4889520"/>
            <a:ext cx="534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ушенная взрывом дача Столыпи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Аптекарском остров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276720" y="189000"/>
            <a:ext cx="31683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формы Столып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124000" y="1197000"/>
            <a:ext cx="1152720" cy="5032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1125360"/>
            <a:ext cx="0" cy="5050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00720" y="1197000"/>
            <a:ext cx="647640" cy="5032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1773360"/>
            <a:ext cx="2627280" cy="1152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ры по наведени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рядка в Росс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08360" y="1773360"/>
            <a:ext cx="1440000" cy="100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грар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фор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08720" y="1700280"/>
            <a:ext cx="3166920" cy="1297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ры по превращени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ссии в правово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сударст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2852640"/>
            <a:ext cx="0" cy="576360"/>
          </a:xfrm>
          <a:prstGeom prst="line">
            <a:avLst/>
          </a:prstGeom>
          <a:ln w="57240">
            <a:solidFill>
              <a:srgbClr val="0088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9280" y="3500280"/>
            <a:ext cx="2376720" cy="1657440"/>
          </a:xfrm>
          <a:prstGeom prst="ellipse">
            <a:avLst/>
          </a:prstGeom>
          <a:solidFill>
            <a:srgbClr val="0088e4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енно-полев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20000" y="3068640"/>
            <a:ext cx="0" cy="431640"/>
          </a:xfrm>
          <a:prstGeom prst="line">
            <a:avLst/>
          </a:prstGeom>
          <a:ln w="57240">
            <a:solidFill>
              <a:srgbClr val="0088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3573360"/>
            <a:ext cx="5184720" cy="3024360"/>
          </a:xfrm>
          <a:prstGeom prst="ellipse">
            <a:avLst/>
          </a:prstGeom>
          <a:solidFill>
            <a:srgbClr val="0088e4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кет законопроектов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 свободе вероисповед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 гражданском равноправ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 улучшении быта рабочи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 реформе местного самоуп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вления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629800" y="333360"/>
            <a:ext cx="30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грарная рефор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1268280"/>
            <a:ext cx="77040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1.Низкая производительность сельского хоз-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Малоземелье крестьян.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6920" y="2708280"/>
            <a:ext cx="7705800" cy="1512720"/>
          </a:xfrm>
          <a:prstGeom prst="rect">
            <a:avLst/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1.Отвлечь внимание крестьян от идеи принудитель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го отчуждения помещичьих земе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Создать широкий слой мелких буржуаз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бственников в деревне.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692360" y="549360"/>
            <a:ext cx="5975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направления аграрной реформ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76360" y="148428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4360" y="1484280"/>
            <a:ext cx="720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5280" y="2060640"/>
            <a:ext cx="2808360" cy="1297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ушение общ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оздание хуторов 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рубо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8200" y="3638520"/>
            <a:ext cx="170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чем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92720" y="1916280"/>
            <a:ext cx="3456000" cy="1441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селение крестья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центральны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уберний в Сиби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84520" y="85680"/>
            <a:ext cx="628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сентября 1911 года Столыпин бы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ертельно ранен, а 5 сентября он уме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5695920" cy="3876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тейников</cp:lastModifiedBy>
  <dcterms:modified xsi:type="dcterms:W3CDTF">2002-05-08T01:36:48Z</dcterms:modified>
  <cp:revision>7</cp:revision>
  <dc:subject/>
  <dc:title>PowerPoint Presentation</dc:title>
</cp:coreProperties>
</file>